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5F8E-E166-48E9-B0D6-F71480606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remove the tarnish by multiplying both sides of the equation by the reciprocal of the number that is the “tarnish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is slide, putting an explanation below each equation of how you would use the mud and tarnish to solve the equation, such 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add 5 to both sides of the equation, and then divide both sides of the equation by 4…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B2832-3B61-4346-9105-03BC62FE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5D102-CA15-436B-B64B-7F27F3E90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77628-0E36-4267-8E10-986C00135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D23CC-5766-4279-9512-69F3B234C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8082-AC0D-4CDC-9396-B7669B94F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5F68F-A8B2-4C9E-8390-C23F8463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CDC2-C238-4FBA-AEB8-1A8D15AC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3F16-3779-455F-AE03-C7F496896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B41B-2AD8-4E39-AB39-90C86252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D47D-84A1-44CF-82C0-0F2EB0BD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D2A6-32C3-46DA-92B2-9E8F9B64C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6558F-DB66-410B-9DB6-160D71F3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C8B9-8835-4FB8-9CCF-68355B23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81EF-AB3B-426E-97A0-4123F19A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BEB8-1656-489B-BC5D-3FA363CE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74C3-5DD1-42ED-AAC1-EAA727B1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3C9E9-F0C7-4D5A-9D6D-88449AB4B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F9377-3AE6-4865-A866-A0897F6C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2AEC3-A0B6-4AB0-9EFA-E8F6786A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ECECD-5BD7-429A-A4B1-8484B9D9C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04286-08C1-42AB-B5B1-E2092623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8795B-61E9-436A-A5A5-F100861D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A9022-9542-451E-A4F9-D4413184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51655-2E30-4B95-89E0-A09774F2C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6072-F3BD-472D-ACD9-A9A6C6349C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EAD40-109E-4811-A348-D83ACC0050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ving Single Variable Linear Equations 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he Mud/Tarnish problem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honda Renk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mmer 2007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8108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What are the steps in solving an linear equation with one variable using the mud/tarnish strateg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TEP 1: Identify the MUD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solidFill>
            <a:srgbClr val="000099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MUD is the number that is on the same side of the equation as the variable you are solving f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MUD i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dd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btract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o that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o remove the MUD, perform the inverse operation to the equation on both sides, using that same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x + 4 = 6    Four is added to 2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Subtract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4 from both sides of the equ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x - 3  = 4.  Three is subtracted from 7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Add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3 to both sides of the equ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ep 2: Identify the TARN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ARNISH is the number tha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ltipli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vi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variable that you are solving for (such as 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emove the TARNISH, perform  the inverse operation to the equation on both sides, using that same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2x = 4       Two is multiplied times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th sides of the equation by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x/3 = 6       x is divided by th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tip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th sides of the equation by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identify the MUD (Step 1)and TARNISH (Step 2) in these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x + 2 = 1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+ 2    Tarnish:  x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x = 24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0       Tarnish:  x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x – 4 = 4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-4      Tarnish: 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/3 – 8 = 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-8      Tarnish: Divide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936960" y="24764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6960" y="24764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w that you can identify the MUD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d TARNISH, explain how to use this information to solve the following equ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x + 2 = 12 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+ 2    Tarnish:  x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ubtract 2 from both sides, and then divide both sides by 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x – 4 = 4  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-4      Tarnish: 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dd 4 to both sides, and then divide both sides by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How would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you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finish this probl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/3 – 8 = 13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-8      Tarnish: Divide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36960" y="247644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36960" y="24764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You can use the “mud/tarnish” strategy to solve many types of algebra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7991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one variable like the ones you’ve just se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more than one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the other variables as if they were just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d and tarnish”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fractions, square roots, even complex numb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ypes of numbers and variabl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“mud and tarnish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15200" cy="76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is another way to look at solving linear equation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743040"/>
            <a:ext cx="7467480" cy="6086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, when you are solving equations using the mud/tarnish metho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343400" cy="441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 of the equation  remaining after you clean off the mud and tarn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 you are solving fo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 it repres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ariable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ing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819760" y="3360600"/>
            <a:ext cx="3071880" cy="2041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nformal Roman"/>
              </a:rPr>
              <a:t>    </a:t>
            </a:r>
            <a:r>
              <a:rPr b="0" lang="en-US" sz="7200" spc="-1" strike="noStrike">
                <a:solidFill>
                  <a:srgbClr val="000000"/>
                </a:solidFill>
                <a:latin typeface="Informal Roman"/>
              </a:rPr>
              <a:t>THE    END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476520" y="3114720"/>
            <a:ext cx="2806920" cy="2074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single variable equations can seem tricky, at first, so begin by asking yourself several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solve the equation 3x + 5 = 14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I broke the problem down into step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I do for the first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I do for the second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know what part of the equation to use for each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472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o solve a problem, it helps to relate it to something that is entirely differ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sib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relat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5 = 1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lieve: Cleaning the muddy, tarnished rings of ancient Roman sold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we start to solve our algebra problem, we need to learn a little about these Romans and their r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 years ago, Roman soldiers fought  battles against fierce tribes in what is now Euro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soldiers buried their rings and other jewelry before battle to protect their valu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oldiers died in battl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, the soldiers survived the battle, but just couldn’t remember where they had buried their jewelry.  (They must have dug a lot of holes trying to find i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today, people with metal detectors in England, Germany, and even in Eastern Europe find this jewelry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95800" y="2709720"/>
            <a:ext cx="3976920" cy="307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times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y find Roman rings in the m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these rings are clea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hese rings ar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mud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these rings are 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tarnish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usually, these rings are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tarnish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ud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638520" cy="2411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23880" y="42195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pretend YOU found a Roman ring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and it was muddy AND tarnish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How woul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ean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4573440" cy="3379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on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e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ring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u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or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arn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m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n the outside of the r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t is what you would clean off fir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lean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arn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harder to clean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ould clean it of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let’s compare the mud and tarnish to parts of our equ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3 x + 5 = 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MUD in this equ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 5 is the mud.  It is the easiest part of the equation to “clean up”, as it is only added to the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get rid of the mu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We “wash off” the mud, 5,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trac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both sides of the equ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subtracting 5 is the inverse of adding 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x + 5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14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x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the mud is gone, what is the                        TARNISH in the equati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3x = 9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RNISH is the number 3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“attached” to x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“remove the tarnish”, you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th sides of the equation by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3  because division is the inverse operation of multi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x / 3 = 9 /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03:13:47Z</dcterms:created>
  <dc:creator>Rhonda Renker</dc:creator>
  <dc:description/>
  <dc:language>en-US</dc:language>
  <cp:lastModifiedBy>Rhonda Renker</cp:lastModifiedBy>
  <dcterms:modified xsi:type="dcterms:W3CDTF">2008-07-05T04:00:06Z</dcterms:modified>
  <cp:revision>40</cp:revision>
  <dc:subject/>
  <dc:title>Solving Single Variable Equations</dc:title>
</cp:coreProperties>
</file>